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E069-28D7-40D2-9325-3641D26A5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47E0-94AB-4912-809C-009871F2D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E820AD-AEFE-4B0B-BB21-8E61C50A8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3D7B80-BFFA-4FD1-9A64-673AE3E05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6E51B3-3BDF-481D-AD76-CD26BC4A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BC580E-052D-455B-9AC0-28E6CBE4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D168E9-13E9-49D3-8C75-462385C4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BC2E38-0C95-413B-91EF-C254748E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A18C33-7356-49CD-91C3-743A4C2A9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B059F5-DF99-483B-9410-5CB2AD671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22B798-9123-4474-96BB-88FD83814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175A08-B88B-405E-8214-ED02D403F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E5FE-6AA3-46A0-AD22-4E1A7A126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22E14F-9C40-4EB0-ABA0-0545116EC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CFA171-7590-4F5D-A8F2-8A630D59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85D24E-0593-48BA-B336-435083E74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CFBF18-6DC1-40D6-BE7D-FF4C678B3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C2ECEB-532B-4B7C-906C-FA248A29E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2749B4-32D3-4D7D-94DB-0547E078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1EB98E-1374-4537-8EE6-7A4B136E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7E492C-3D3A-425A-B1C0-08F5C524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FABCB2-2F72-4A19-9D74-30F3575A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1B18C2-88C3-4E19-9100-4E51DCA65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F862-7AB1-4D54-9BB0-8F2232E5B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8450DE-47D7-41B8-8021-006818234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6635FA-F7DE-4704-9D28-79B8DB673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D75A49-8759-4018-A330-50B9CC26A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2CD60A-02D6-441F-887D-7C879AD45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E3CE21-A8FC-4087-87DC-AFA7E330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925922-2952-47AC-8D6F-2BA5C6A59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CF5CD5-3BF9-4634-857B-C009DD729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07F0CF-05E5-4C24-A555-AF858762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FD149B-F19C-4D46-8F2F-F4B8478C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B6D9A4-2C49-45E3-A189-2D313060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9F24B-65C8-4B4D-86E7-64D555EAD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5E23BA-7963-49A6-9525-811BD20EF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F9DAAA-99F4-4B09-9304-24156E49D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D5947F-FE76-4307-975D-195B532C2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67E849-11AD-4384-8968-3D62E19F8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E0EB52-4163-4C80-9CCF-E3140A747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7E2A8B-E94E-4BF6-83CF-D7818DDE7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8635AD-C4A2-4985-BFA3-57F90639A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F7188B-D414-49B9-89A9-570C45B11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AE92AD-A59E-43DF-9636-D36608E32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BBE973-9BD4-4583-BD8F-8240730E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7F304-416D-49BA-AE41-CAB924DD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16181A-8DFD-40F3-837E-20986F6F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0E35C7-C7CD-448E-84DF-FE70A876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ECB5AD-807C-45A6-8CF1-C0C2ABA43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AD18C0-912C-4925-9336-226B675D6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AAB0A3-762A-4937-AB64-28273BC9B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6D349-08E1-4FB9-93F9-578290A2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3674-E0A9-4D9D-972D-A8A1A692C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4D3A7-7547-4635-8B3D-A7ECAF783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E6090-071C-4CB7-A50E-73D7CF0A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E3D99-A4FD-4C19-8C0E-3743460D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6CD0-2553-4281-813B-B484D3D1D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C1B55-74DB-4EA7-8C6C-907B0304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91FF0-B788-42C9-822D-99CA45C8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A1C8E-5C26-4631-90B8-A77AE2CB7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39A15-0F11-4AF9-A358-DEED1BB32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49106-573C-4A23-9438-0DC1025C3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5508F-9EB7-4A78-A119-ACB3274D6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06D8F-B329-45B1-B564-47E38FA98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779C0-402A-4DD4-BB38-DBC259244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B4689-A38A-48BE-9BE6-FAB5F82F9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C8124-581B-40EB-88ED-F297105F4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10A4-D608-439F-A39A-1D15590D6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74373-2088-4114-BEE9-AE9B8AA7D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C2F14-AA28-4799-8482-E2CD998C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0ED6F-F13E-4325-BC1E-27561023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EA73F-51A9-4E31-9795-5BAEA4CB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E7124-DCF6-4479-807B-35D30A93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0017A-8B09-44CA-8672-FA99721C0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4933C-6A5F-4E9D-97E8-624CD590F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FB778-407F-4C57-A79F-31D5EAAF4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B24E9-154B-46BE-9AAC-0B15853BE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119D0-2906-4619-BBF9-E1B963EC1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D9F6-1508-4063-83DB-7CEAEC018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CC66F-6B9D-48F1-BC41-0F83B046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FE6DE-7657-4F38-A287-ABE0B145D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D06A0-C43E-4B33-8D56-487BF8A84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E8CDB-2440-464D-83FF-290AA504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26DB6-2161-410A-8CED-77700DF4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68C01-07D2-44B9-BC2D-98BE3391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C5155-DF4D-4930-BAB0-F7316A3E4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FCC73-63F6-43D4-987C-11AEE91BE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C4EEA-CDF6-41E2-945C-C00E589B5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74247-893A-4204-BEE9-AA7D209CD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D6AF-5CBA-4929-8E43-A4EEB1E1D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7C418-3A5E-4613-B190-853CFCB24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C2B6A-38FA-4A65-AB0F-A19F046DA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376F6-FC70-4AC6-AA91-186CFCD5F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5204D-3B67-41B5-9B2B-A694EAB7D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4AC48-908D-4E47-8558-115F8B0B5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DBBFD-AEEB-4EB9-BA62-1BB5D1D0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D6AAB-8276-404B-8F6E-466E912E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EDFE4-1DC8-451D-8264-6ADE54BC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2F645-6822-4307-AD6D-01FEBCB72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8DF00-FF5D-4D41-B0BD-F8F193CB3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5D61-FA05-43DD-B4AE-0B05E3B91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4EB8B-F8A5-49FF-8B4D-9766AF2AA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6071E-C6C5-48AF-B82D-7D5946DE6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D09A1-7457-4049-B137-8C96AE165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57CC9-651F-4E25-8D9D-9025C3A8B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81B82-CFDB-465C-BB9D-5136EA1D0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44BC8-778D-4A9B-BF75-3938C874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3B552-C51A-4609-B9EA-11197851D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10D31-AFF0-44D0-A7BD-3763AAEE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7F702-6D68-4120-A8B7-C55D3046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7D5E7-7661-489D-BE36-001F9851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EEC7-4565-4A5E-9E7B-2D17A216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5C8E4-146B-4B0C-B75A-F3B0C9D96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BEB62-9D03-4647-B62D-D45616CD2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95710-6A4C-4C8C-B19B-74691D9E5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45B04C-8280-4595-99DF-1AAF82A96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10B6D-9DDB-4472-8202-3F9E466F4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011E7-3721-4F91-B8A9-C15F3974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F7E9D-9BE2-4E1B-AF9B-046C79579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41E414-4652-4D8B-B9F1-2FEBDA502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62EEF-906B-45D0-AC7E-661FBDA0C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E0205-DC49-4A40-9262-FCF9B2BA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FCE5-9F7B-4AF7-9BD1-8BC58358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D0F89-9DB9-4B6B-A394-4D899D23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038B7D-1C86-430A-B67B-66A0AEDB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97699-2FA4-4B96-BFE1-822A26ED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DF60E-97C1-4EE4-94B5-37D62A87D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AEF8E-C434-4DA9-99C0-7B2BA8D62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BBD5B-F306-4298-9AF0-F26F93166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28DCC-BA95-48C3-95DD-EB9759DE1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3A156A-56E8-40AD-B8B5-4692DFB6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BB64DF-6F59-4FBA-B643-0AD56F0DE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9971B5-A34E-418D-B348-8EDEB0912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AA75-3FEC-48C5-AEFF-60475A5E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0E314-8FC6-4FC3-8454-3A2BA2BD6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3189CA-2D3D-41D2-99F6-2DC4CBB1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2240A-A01C-4458-AF6D-85327DD6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F0A40-6307-467B-9A07-F9A628E0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CE4B93-238B-48E2-8A84-B97A8D4D2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D975B7-1BF7-4FE0-9C11-A87CECCA2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F2FEC3-D584-4AD1-959F-0E14503FB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46E56B-DDE4-4C89-9001-E3E4EFE69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D0C949-EA82-45D7-82E0-93DE15F05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3EC2F5-48F2-46FE-92F2-3C694DEEF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F101F-555E-47B2-8B88-ED2FA8EE557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96CA8-F97E-4091-8624-0A8BCC31F69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302A3-9AA6-46B9-B315-20B842B9EFD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FA8A-58EF-4978-B0F1-7D1E8D3F134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114EB-A5B8-471B-8C14-4188EA76698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E0945-D207-40C7-AD29-C8F94C636C1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A3D2-6C2E-4F4D-94C9-0F78735D44A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1F92C-4B2B-4CED-8B4B-A72AB7B5319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88AA-B76D-4E79-93EA-C3B4F883FE6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DF964-A8C1-459C-8C41-1AF8A3780DA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A3AC0-1F6C-479A-8304-356240DF90D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CDAD4-EF0E-4B61-AD30-23DCCE75500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0 Len k tebe, Tvorca môj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k tebe, Tvorca mô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rak viery upiera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||: veď v tvojej láske spás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droj i večný život mám.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iem, že ma miluješ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chrániš deň po dni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4800"/>
            </a:b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||: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ín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riechu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restu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bavuješ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oc vždy som nehodný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:||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ôj bezpečný si štít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nádej v úzkosti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||: Ty v láske svojej chceš ma skryť pre večnosť z milosti. :||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4-01-03T18:59:03Z</dcterms:modified>
  <cp:revision>32</cp:revision>
  <dc:subject/>
  <dc:title>Je veľký náš Pán, on slávy je Kráľ Nech do všetkých strán  spev vrúcnych znie chvál.</dc:title>
</cp:coreProperties>
</file>